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040" y="405720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13720" y="18284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040" y="40572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13720" y="40572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9440" y="18284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4840" y="18284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040" y="40572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19440" y="40572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4840" y="40572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04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429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13720" y="18284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2429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3720" y="18284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040" y="40572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04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429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18284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13720" y="40572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18284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040" y="405720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14040" y="405720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13720" y="18284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40572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13720" y="40572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19440" y="18284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4840" y="18284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14040" y="40572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19440" y="40572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4840" y="40572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3720" y="18284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2429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3720" y="18284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040" y="40572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3720" y="18284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13720" y="40572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3720" y="18284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040" y="405720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45b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45b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80808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80808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240" y="1447920"/>
            <a:ext cx="8686800" cy="318960"/>
            <a:chOff x="228240" y="1447920"/>
            <a:chExt cx="8686800" cy="318960"/>
          </a:xfrm>
        </p:grpSpPr>
        <p:sp>
          <p:nvSpPr>
            <p:cNvPr id="7" name=""/>
            <p:cNvSpPr/>
            <p:nvPr/>
          </p:nvSpPr>
          <p:spPr>
            <a:xfrm>
              <a:off x="676080" y="1447920"/>
              <a:ext cx="8238960" cy="317160"/>
            </a:xfrm>
            <a:prstGeom prst="roundRect">
              <a:avLst>
                <a:gd name="adj" fmla="val 0"/>
              </a:avLst>
            </a:prstGeom>
            <a:solidFill>
              <a:srgbClr val="0242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27880" y="1447920"/>
              <a:ext cx="462600" cy="318960"/>
            </a:xfrm>
            <a:prstGeom prst="flowChartDelay">
              <a:avLst/>
            </a:prstGeom>
            <a:solidFill>
              <a:srgbClr val="0242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9" name="cvologo_f" descr=""/>
          <p:cNvPicPr/>
          <p:nvPr/>
        </p:nvPicPr>
        <p:blipFill>
          <a:blip r:embed="rId2"/>
          <a:stretch/>
        </p:blipFill>
        <p:spPr>
          <a:xfrm>
            <a:off x="7086600" y="152280"/>
            <a:ext cx="1803240" cy="55728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7363800" y="6613560"/>
            <a:ext cx="155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3366"/>
                </a:solidFill>
                <a:latin typeface="Symbol"/>
                <a:ea typeface="Symbol"/>
              </a:rPr>
              <a:t></a:t>
            </a:r>
            <a:r>
              <a:rPr b="0" lang="de-DE" sz="1000" spc="-1" strike="noStrike">
                <a:solidFill>
                  <a:srgbClr val="003366"/>
                </a:solidFill>
                <a:latin typeface="Arial"/>
              </a:rPr>
              <a:t>2004 – Rolf Neuendorf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45b1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0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242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242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429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2429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80808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Biologische</a:t>
            </a:r>
            <a:br>
              <a:rPr sz="3600"/>
            </a:b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Wirkung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65600" y="525780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Dr. Rolf Neuendor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2" name="cvo_fak5" descr=""/>
          <p:cNvPicPr/>
          <p:nvPr/>
        </p:nvPicPr>
        <p:blipFill>
          <a:blip r:embed="rId1"/>
          <a:stretch/>
        </p:blipFill>
        <p:spPr>
          <a:xfrm>
            <a:off x="5715000" y="5719680"/>
            <a:ext cx="2590920" cy="838440"/>
          </a:xfrm>
          <a:prstGeom prst="rect">
            <a:avLst/>
          </a:prstGeom>
          <a:ln w="0">
            <a:noFill/>
          </a:ln>
        </p:spPr>
      </p:pic>
      <p:pic>
        <p:nvPicPr>
          <p:cNvPr id="93" name="Hautanat" descr=""/>
          <p:cNvPicPr/>
          <p:nvPr/>
        </p:nvPicPr>
        <p:blipFill>
          <a:blip r:embed="rId2"/>
          <a:stretch/>
        </p:blipFill>
        <p:spPr>
          <a:xfrm>
            <a:off x="6400800" y="228600"/>
            <a:ext cx="1577880" cy="2209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4648320" y="1066680"/>
          <a:ext cx="4343400" cy="331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066680"/>
                    <a:ext cx="4343400" cy="33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Thermoakustische Wirkung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2437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explosionsartige Verdampfung von </a:t>
            </a:r>
            <a:br>
              <a:rPr sz="2800"/>
            </a:b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Wasser im Gewebe ("Popcorn-Effekt"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Ausbildung von Druckwellen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Gewebe wird zerfetzt,</a:t>
            </a:r>
            <a:br>
              <a:rPr sz="2800"/>
            </a:b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Partikel werden herausgeschleuder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schmerzhafte, zum Teil stark blutende</a:t>
            </a:r>
            <a:br>
              <a:rPr sz="2800"/>
            </a:b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Verletzungen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Photochemische Wirkung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97180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Chemische Eigenschaften des Gewebes werden verändert</a:t>
            </a:r>
            <a:br>
              <a:rPr sz="2800"/>
            </a:b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Arial"/>
              </a:rPr>
              <a:t>biologische Funktionen werden gestör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Ultraviolette Strahlung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Im gesamten UV-Spektralbereich (100 - 380 nm) ist die biologisch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Wirkung der Strahlung </a:t>
            </a:r>
            <a:r>
              <a:rPr b="1" lang="de-DE" sz="2000" spc="-1" strike="noStrike">
                <a:solidFill>
                  <a:srgbClr val="080808"/>
                </a:solidFill>
                <a:latin typeface="Arial"/>
              </a:rPr>
              <a:t>kumulativ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Zur Beurteilung der Gefährdung muß man daher das Zeitintegra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(30 000 s = 1 Arbeitstag) der Bestrahlungsstärke betrachten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80808"/>
                </a:solidFill>
                <a:latin typeface="Arial"/>
              </a:rPr>
              <a:t>UV-A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 (315 - 380 nm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einige Millimeter Eindringtiefe in die Haut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Absorption im Auge hauptsächlich in der Lins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Biologische Wirkung: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Pigmentierung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Kataraktbildung (Prozess ?, Schwellwert ?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Ultraviolette Strahlung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80808"/>
                </a:solidFill>
                <a:latin typeface="Arial"/>
              </a:rPr>
              <a:t>UV-A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 (280 - 315 nm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Biologische Wirkung: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80808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80808"/>
                </a:solidFill>
                <a:latin typeface="Arial"/>
              </a:rPr>
              <a:t>Erythembildung</a:t>
            </a:r>
            <a:br>
              <a:rPr sz="1800"/>
            </a:br>
            <a:r>
              <a:rPr b="0" lang="de-DE" sz="1800" spc="-1" strike="noStrike">
                <a:solidFill>
                  <a:srgbClr val="080808"/>
                </a:solidFill>
                <a:latin typeface="Arial"/>
              </a:rPr>
              <a:t>(max. bei 297 nm, Schwellwert: 30-50 </a:t>
            </a:r>
            <a:r>
              <a:rPr b="0" lang="de-DE" sz="1800" spc="-1" strike="noStrike">
                <a:solidFill>
                  <a:srgbClr val="080808"/>
                </a:solidFill>
                <a:latin typeface="Symbol"/>
                <a:ea typeface="Symbol"/>
              </a:rPr>
              <a:t></a:t>
            </a:r>
            <a:r>
              <a:rPr b="0" lang="de-DE" sz="1800" spc="-1" strike="noStrike">
                <a:solidFill>
                  <a:srgbClr val="080808"/>
                </a:solidFill>
                <a:latin typeface="Arial"/>
              </a:rPr>
              <a:t>J/cm</a:t>
            </a:r>
            <a:r>
              <a:rPr b="0" lang="de-DE" sz="1800" spc="-1" strike="noStrike" baseline="30000">
                <a:solidFill>
                  <a:srgbClr val="080808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80808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80808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80808"/>
                </a:solidFill>
                <a:latin typeface="Arial"/>
              </a:rPr>
              <a:t>Photokeratitis</a:t>
            </a:r>
            <a:br>
              <a:rPr sz="1800"/>
            </a:br>
            <a:r>
              <a:rPr b="0" lang="de-DE" sz="18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80808"/>
                </a:solidFill>
                <a:latin typeface="Arial"/>
              </a:rPr>
              <a:t>UV-C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 (100 - 280 nm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Unterhalb 180 nm starke Absorption durch Sauerstoff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(keine freie Ausbreitung in Luft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Biologische Wirkung: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80808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80808"/>
                </a:solidFill>
                <a:latin typeface="Arial"/>
              </a:rPr>
              <a:t>Erythembildung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80808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80808"/>
                </a:solidFill>
                <a:latin typeface="Arial"/>
              </a:rPr>
              <a:t>Photokeratitis (Schwellwert ?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Infrarote Strahlung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80808"/>
                </a:solidFill>
                <a:latin typeface="Arial"/>
              </a:rPr>
              <a:t>Schädigende Wirkung ist rein thermisch!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80808"/>
                </a:solidFill>
                <a:latin typeface="Arial"/>
              </a:rPr>
              <a:t>Nahes IR (IR-A, 780 - 1400 nm)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80808"/>
                </a:solidFill>
                <a:latin typeface="Arial"/>
              </a:rPr>
              <a:t>dringt bis zur Netzhaut vor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80808"/>
                </a:solidFill>
                <a:latin typeface="Arial"/>
              </a:rPr>
              <a:t>&gt; 1000 nm zunehmende Absorption in den vorderen Augenmedien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80808"/>
                </a:solidFill>
                <a:latin typeface="Arial"/>
              </a:rPr>
              <a:t>biologische Wirkung: </a:t>
            </a:r>
            <a:r>
              <a:rPr b="1" lang="de-DE" sz="1800" spc="-1" strike="noStrike">
                <a:solidFill>
                  <a:srgbClr val="080808"/>
                </a:solidFill>
                <a:latin typeface="Arial"/>
              </a:rPr>
              <a:t>Kataraktbildung</a:t>
            </a:r>
            <a:br>
              <a:rPr sz="1800"/>
            </a:br>
            <a:r>
              <a:rPr b="1" lang="de-DE" sz="18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80808"/>
                </a:solidFill>
                <a:latin typeface="Arial"/>
              </a:rPr>
              <a:t>Mittleres IR (IR-B, 1400 - 3000nm) &amp; Fernes IR (IR_C, 3mm - 1mm)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80808"/>
                </a:solidFill>
                <a:latin typeface="Arial"/>
              </a:rPr>
              <a:t>hohe Wasserabsorption, Netzhaut kann nicht mehr erreicht werden</a:t>
            </a:r>
            <a:br>
              <a:rPr sz="1800"/>
            </a:br>
            <a:r>
              <a:rPr b="1" lang="de-DE" sz="18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Wirkung beim Auge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409720" y="1828440"/>
            <a:ext cx="3505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Im Sichtbaren und im nahen Infrarot dringt die Strahlung bis zur Netzhaut vor.</a:t>
            </a:r>
            <a:br>
              <a:rPr sz="2000"/>
            </a:b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Bestrahlungsstärke (durch Fokussierung im Auge) um 5-6 Größenordnungen höher als auf Hornhaut !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838080" y="2400480"/>
          <a:ext cx="4648320" cy="35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400480"/>
                    <a:ext cx="4648320" cy="35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Zusammenfassung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838080" y="1981080"/>
          <a:ext cx="8001000" cy="4130640"/>
        </p:xfrm>
        <a:graphic>
          <a:graphicData uri="http://schemas.openxmlformats.org/drawingml/2006/table">
            <a:tbl>
              <a:tblPr/>
              <a:tblGrid>
                <a:gridCol w="1676520"/>
                <a:gridCol w="2514600"/>
                <a:gridCol w="3809880"/>
              </a:tblGrid>
              <a:tr h="3002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ktralbereic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kung auf Hau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kung auf Aug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449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V-C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100–280 nm 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V-B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280–315 nm 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&lt; mm Eindringtiefe 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ythem (Hautrötung) mit sekundärer Pigmentierung, Hautkarzinom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Absorption in der Hornhaut 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keratitis (Hornhautentzündung), Photokonjunktivitis (Bindehautentzündung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V-A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315-400 nm 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~ mm Eindringtiefe 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ke Pigmentierung (ohne Erythembildung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Absorption in der Augenlinse 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hlenkatarakt (Grauer Star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68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chtbare Strahlung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400-780 nm 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Eindringtiefe bestimmt durch Pigmentierung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chemische Prozesse, thermische Hautschäden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Absorption in der Netzhaut 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chemische und thermische Retinaschädigung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-A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780-1400 nm 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Eindringtiefe bestimmt durch Pigmentierung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mische Hautschäden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Absorption im Glaskörper und  in der Netzhaut 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hlenkatarakt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-B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1400-3000 nm 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~ mm Eindringtiefe 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mische Hautschäden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Absorption in der Augenlinse und im Glaskörper 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mische Hornhaut- und Linsenschädigung, Katarakt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-C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3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 – 1 mm 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&lt; mm Eindringtiefe 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mische Hautschäden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Absorption in der Hornhaut 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mische Hornhautschädigung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Grenzwerte nach DIN EN 60 825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Die maximal zulässige Bestrahlung (MZB-Wert) des Auge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hängt von zahlreichen Parametern ab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Die Grenzwerte nach DIN EN 60825-1 sind so gewählt, das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Expositionen unterhalb dieser Werte (vermutlich) keine Schäden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hervorrufen können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(Mehr zu MZB/GZS-Werten morgen...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und wenn es doch passiert ...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65" name="wange_kaputt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3429000" cy="2373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952880" y="2373480"/>
            <a:ext cx="3200400" cy="2350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990720" y="4800600"/>
            <a:ext cx="753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Hautschaden                                 mehrfacher 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Augenschad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nach Bestrahlung mit einem Ar</a:t>
            </a:r>
            <a:r>
              <a:rPr b="0" lang="de-DE" sz="24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-Ionenlas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24480" y="327672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96080" y="4038480"/>
            <a:ext cx="38124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10080" y="3505320"/>
            <a:ext cx="38124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Inhalt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Wechselwirkung von Laserlicht und Materi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Absorption biologischer Materialien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Laser-Gewebe Wechselwirkungen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0808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Thermische Wirkungen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0808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Thermoakustische Wirkungen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0808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Photochemische Wirkungen</a:t>
            </a:r>
            <a:br>
              <a:rPr sz="2000"/>
            </a:b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0808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Ultraviolette Strahlung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0808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Infrarote Strahlung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Wirkung auf das Aug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Grenzwert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Wechselwirkung Laserlicht-Materie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809880" y="2209680"/>
          <a:ext cx="1905120" cy="16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209680"/>
                    <a:ext cx="190512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5180040" y="3657600"/>
            <a:ext cx="12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57800" y="3200400"/>
            <a:ext cx="11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33200" y="320040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reuun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1905120"/>
            <a:ext cx="92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flexi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66720" y="2133720"/>
            <a:ext cx="913680" cy="5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ffu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15-40%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4120" y="2133720"/>
            <a:ext cx="715680" cy="5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rek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4-7%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08280" y="4419720"/>
            <a:ext cx="33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Lambert-Beersches Gesetz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476520" y="4876920"/>
                <a:ext cx="188604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γ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289320" y="5257800"/>
                <a:ext cx="210672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γ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908640" y="6248520"/>
            <a:ext cx="228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bschwächungskoeffizien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52400" y="6324480"/>
            <a:ext cx="193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bsorptionskoeffizien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40000" y="5715000"/>
            <a:ext cx="141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reukoeffizien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410080" y="5867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4800600" y="609552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743200" y="59432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Absorption einiger Chromophore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14400" y="1063800"/>
          <a:ext cx="7696080" cy="582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063800"/>
                    <a:ext cx="769608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6325200" y="220968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ff"/>
                </a:solidFill>
                <a:latin typeface="Arial"/>
              </a:rPr>
              <a:t>Wasse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95840" y="4114800"/>
            <a:ext cx="79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ff00"/>
                </a:solidFill>
                <a:latin typeface="Arial"/>
              </a:rPr>
              <a:t>Protei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20240" y="2743200"/>
            <a:ext cx="833040" cy="5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Haemo-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globi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120" y="2666880"/>
            <a:ext cx="84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3300"/>
                </a:solidFill>
                <a:latin typeface="Arial"/>
              </a:rPr>
              <a:t>Melani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2286000"/>
            <a:ext cx="6094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231480" y="3880080"/>
            <a:ext cx="25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bsorptionskoeffizient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80808"/>
                </a:solidFill>
                <a:latin typeface="Arial"/>
              </a:rPr>
              <a:t>Streuung und Absorption von Laserlicht im Gewebe</a:t>
            </a:r>
            <a:endParaRPr b="1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1905120"/>
          <a:ext cx="5181840" cy="16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905120"/>
                    <a:ext cx="5181840" cy="16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1114560" y="3809880"/>
            <a:ext cx="6659280" cy="25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asertypen: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xcime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gon-Ion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d:YA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:YAG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rbstoff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ode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bsorpti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bsorpti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reuun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ominierend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d Streuung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ominieren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dringtief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dringtief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dringtief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 ... 20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,5 ... 3 mm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 ... 10 m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Laser-Gewebe Wechselwirkungen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066680" y="1353960"/>
          <a:ext cx="7239240" cy="547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53960"/>
                    <a:ext cx="7239240" cy="54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2133720" y="205740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133720" y="58672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Wirkung auf biologisches Gewebe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abhängig von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Energie- bzw. Leistungsdicht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Wellenläng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Einwirkdauer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Eigenschaften des Gewebes</a:t>
            </a:r>
            <a:br>
              <a:rPr sz="2400"/>
            </a:br>
            <a:r>
              <a:rPr b="0" lang="de-DE" sz="1600" spc="-1" strike="noStrike">
                <a:solidFill>
                  <a:srgbClr val="080808"/>
                </a:solidFill>
                <a:latin typeface="Arial"/>
              </a:rPr>
              <a:t>(Gewebeart, Pigmentierung, Durchblutung, Behaarung, etc.)</a:t>
            </a:r>
            <a:br>
              <a:rPr sz="1600"/>
            </a:br>
            <a:r>
              <a:rPr b="0" lang="de-DE" sz="16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Schädigungsmechanismen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thermische Beeinflussung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thermoakustische Wirkung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80808"/>
                </a:solidFill>
                <a:latin typeface="Arial"/>
              </a:rPr>
              <a:t>photochemische Reaktionen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Thermische Wirkung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Große Leistungsdichten in kleinen Volumina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starke lokale Aufheizung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Die optische Eindringtiefe legt die thermische Leistungsdichte fest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Die häufigsten Schädigungen: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Hautrötung bis Verbrennungen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8080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80808"/>
                </a:solidFill>
                <a:latin typeface="Arial"/>
              </a:rPr>
              <a:t>Verkochen und Verdampfen des Gewebe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38280" y="2590920"/>
            <a:ext cx="1905120" cy="304560"/>
          </a:xfrm>
          <a:prstGeom prst="rightArrow">
            <a:avLst>
              <a:gd name="adj1" fmla="val 50000"/>
              <a:gd name="adj2" fmla="val 156383"/>
            </a:avLst>
          </a:prstGeom>
          <a:solidFill>
            <a:srgbClr val="46b134"/>
          </a:solidFill>
          <a:ln w="9360">
            <a:solidFill>
              <a:srgbClr val="46b1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80808"/>
                </a:solidFill>
                <a:latin typeface="Arial"/>
              </a:rPr>
              <a:t>Gewebeveränderungen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990720" y="1981080"/>
          <a:ext cx="7924680" cy="25988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218960"/>
                <a:gridCol w="1320840"/>
                <a:gridCol w="1320840"/>
                <a:gridCol w="1320840"/>
              </a:tblGrid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Temperatur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37°C - 60°C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&gt; 60°C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&lt; 100°C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100°C bis einige 100°C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Wirkung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Erwärmung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Koagulation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Austrocknung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Karbonisierung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Vergasung,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Verbrennung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optisches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Verhalten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Änderung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nicht sichtbar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weißgraue Färbung, erhöhte Streuung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konstante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Streuung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braun-schwarze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Färbung, starke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Absorption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Entstehung von Rauch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mechanisches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Verhalten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Änderung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nicht erkennbar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Auflockerung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Entzug von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Flüssigkeit,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Schrumpfung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Verkrustung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Abtragung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1676520" y="5029200"/>
          <a:ext cx="2396880" cy="16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5029200"/>
                    <a:ext cx="2396880" cy="16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2666880" y="4952880"/>
            <a:ext cx="457200" cy="838440"/>
          </a:xfrm>
          <a:prstGeom prst="downArrow">
            <a:avLst>
              <a:gd name="adj1" fmla="val 50000"/>
              <a:gd name="adj2" fmla="val 45846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71800" y="48006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61240" y="5345280"/>
            <a:ext cx="4557600" cy="5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ematische Darstellung der unterschiedlichen Zone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m Gewebe bei der Laserbestrahlun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9T14:19:57Z</dcterms:created>
  <dc:creator>rolf</dc:creator>
  <dc:description/>
  <dc:language>en-US</dc:language>
  <cp:lastModifiedBy>rolf</cp:lastModifiedBy>
  <dcterms:modified xsi:type="dcterms:W3CDTF">2004-05-10T06:27:27Z</dcterms:modified>
  <cp:revision>54</cp:revision>
  <dc:subject/>
  <dc:title>Grundlagen der  LASER-Operation</dc:title>
</cp:coreProperties>
</file>